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C8F8-36E9-4429-A432-D329D8E54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7855-8E75-4855-A1CE-5F22FD76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85EF-C6AD-45AA-9A39-94948718B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48F5-CCC1-4598-AD26-FB0F7F43C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A80C-16AF-4B56-9A8F-CBD4D509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7655-FE5D-40B1-B185-7A6F504D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6BF5-7B15-46C6-B616-49098379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ECD8-B191-42E9-B316-D88AAA9D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7632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FF2D-30AF-4B51-B17D-CC01D60F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7CD8-8292-4953-A92A-AAF44C15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0326-6A5F-493C-B04A-AA90E1A7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903D-1785-424C-9909-C7EC92F2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0B83-08EA-4C75-935D-CE25137166EA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343680" y="5940360"/>
            <a:ext cx="267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ManTech Propriet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Customer Changes - NATO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3809880" cy="20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34080" y="517680"/>
            <a:ext cx="4173480" cy="52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Pending Award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X -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$2.0 mill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TO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T/NCSA Sector $1.4 mill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urrent Proposal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udio VT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$0.6 mill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d write specs and RF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e source con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ward June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E ACCIS Core Capability $11 Million (Germany – sub to Serc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upgrade services (9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Hardware sales (91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Qtr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pportunities under re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r traffic Control – Kandahar (Afghanistan)          $5.0 mill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on sub position to Th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W/SW network Upgrade – SHAPE $3.0 Million (Joint MSS &amp; IS&amp;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&amp;T leading eff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S to support and supply local 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6120" y="565200"/>
            <a:ext cx="4249800" cy="30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Current Contract Activity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TM-I (Joint MSS &amp;DS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itive monthly SLA Repor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LL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sonnel replacement, fully staff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ure VT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llation final two suites, July 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cted NTM-I ADM, May 0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Challeng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ic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lex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 Bo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AR/ TAA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37960" y="3598920"/>
          <a:ext cx="4448160" cy="2488680"/>
        </p:xfrm>
        <a:graphic>
          <a:graphicData uri="http://schemas.openxmlformats.org/drawingml/2006/table">
            <a:tbl>
              <a:tblPr/>
              <a:tblGrid>
                <a:gridCol w="1411200"/>
                <a:gridCol w="1136880"/>
                <a:gridCol w="977760"/>
                <a:gridCol w="922320"/>
              </a:tblGrid>
              <a:tr h="462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rac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mployee (25 %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ultants/Subs (75%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ta March 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</a:tr>
              <a:tr h="25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CM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TO HQ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C3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S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LL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 employe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AP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Tech - Staf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4687-8DB5-4762-8109-34E13C8F9E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7T02:41:51Z</dcterms:created>
  <dc:creator>T.I. Weintraub</dc:creator>
  <dc:description/>
  <dc:language>en-US</dc:language>
  <cp:lastModifiedBy>Lindy Martin</cp:lastModifiedBy>
  <dcterms:modified xsi:type="dcterms:W3CDTF">2007-05-18T05:42:37Z</dcterms:modified>
  <cp:revision>1434</cp:revision>
  <dc:subject>BD Review - ManTech Space Systems</dc:subject>
  <dc:title>PowerPoint Presentation</dc:title>
</cp:coreProperties>
</file>